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BB38-DDDA-4AAB-8C89-13521DE7C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5B7E-C57B-49BD-8F25-90CCD31D31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5AB0-FFDA-45BF-985C-E36EA4F681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0E68-3A6C-47DE-ABED-5DC5C171E1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BF6F-7263-4BA3-B406-5AE8C40C21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97CF-54E9-4F77-9297-2334259278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FC84-2F45-4357-B1E4-54210715B6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8813-E6EE-4BFD-90F8-3ED478E18A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4A77-68C4-4904-9B3B-63E472F4A1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AEFA-7885-4B0A-9114-7A63B55627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EB95-EBA1-4F1F-A269-70AA13C54D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6F51-21B0-4983-8E0E-4DCC2FE700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32F6-29C2-4CF9-848E-369F1BCA91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3169-2AAE-4E9C-9CA8-AA87C154CB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4BDA-D318-44A9-9F41-031A5ADC68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4474-AE16-4324-BD77-CE7E9FF561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DA61-F50B-432B-B992-270C258582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FC61-28D5-4407-BDAF-4C862D252A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6D08-31E9-4988-AF78-7FEB893FEA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51D0-0E9E-4397-84FD-1811054132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45CA-8F1F-4828-8434-B28EEBF78E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C82F-FF40-4097-8DA1-41BC79A6E9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43E3-DD03-45BC-BE9F-40E826824B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7C86-87C8-4373-A2EC-03D4CF0E3D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3CD3-F554-480B-A61D-FE4F25A4CC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B5D8-5220-494B-B0D5-7A0BB396EB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6A0E-6AA0-4049-B6FA-F11F3B06F1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626D-9F0D-41FC-A710-E544EA9A9E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20E7-5DD2-460D-8D17-8E6CE24B0D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53E9-8A84-42E7-84C0-B758C1EE66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B174-3F3F-497E-87A5-8299FF4239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6B93-0861-4BB3-B388-6DBBD7D450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6C29-BE74-4292-A2B0-751096AB17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A5E-6256-4C1E-BEF0-6B68E963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296-2B85-49B0-9E47-408A3CA8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7EB-5566-4AF8-BF66-E2A697ED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A23-50F5-4B7B-94FD-EA69BB73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09B6-7876-42FF-BDA0-750C68F0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5945-C09E-436B-96F8-EE29D4EB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E2AD-E99E-417A-8D12-D6C0E4AA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6F73-58C4-4BA2-A568-679D734D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4DA4-1406-41D2-BFB5-21509E98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04AE-0763-4ADE-8FE2-38A695D0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ACC7-DF34-4A81-90D3-91203E65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F67-F164-429C-B059-CF4AF71E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276C-8C61-4B39-8BAF-7C4D02EE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B02F-C82F-4AF3-AA54-26CE971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AD1A-1579-4DB1-A58D-F8DFAC53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CC32-AB42-4981-A9BC-4311EE17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6D40-F7B7-4D4D-AA06-06FD81C1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C76-4B03-47DB-9372-598D3130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6CE-1CA7-4BA3-985C-F186404D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03C-AD97-47E9-B238-10C30ADE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AE3-F0CA-4313-807E-1FC4CA9D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964-ED75-469A-A3F2-9CDFC85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8C3-264E-4E85-8386-F3A98B28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321-1419-43D2-918A-5EFBAD41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AD09-2E9A-4B6E-9D40-45A45C4934CE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E21-5C61-4CB6-80E8-7CEB474EB21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8207-2BF1-41BD-BBB6-326828BE81FB}" type="datetime">
              <a:rPr b="0" lang="en-GB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5980-DB75-47E4-A1B2-B01F53623F2B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mailto:ecocom-moscow@mfa.gr" TargetMode="External"/><Relationship Id="rId3" Type="http://schemas.openxmlformats.org/officeDocument/2006/relationships/hyperlink" Target="http://www.agora.mfa.gr/russia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1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3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E464-73A9-45F4-BC82-2EC6B145535D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898560" y="422280"/>
            <a:ext cx="778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3154320" y="787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1752480" y="3048120"/>
            <a:ext cx="1774800" cy="1143000"/>
            <a:chOff x="1752480" y="3048120"/>
            <a:chExt cx="1774800" cy="1143000"/>
          </a:xfrm>
        </p:grpSpPr>
        <p:sp>
          <p:nvSpPr>
            <p:cNvPr id="223" name="Rectangle 12"/>
            <p:cNvSpPr/>
            <p:nvPr/>
          </p:nvSpPr>
          <p:spPr>
            <a:xfrm>
              <a:off x="1752480" y="3048120"/>
              <a:ext cx="1774800" cy="11430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2026800" y="3048120"/>
              <a:ext cx="108000" cy="60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1752480" y="3320640"/>
              <a:ext cx="640080" cy="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2392560" y="3176280"/>
              <a:ext cx="1134000" cy="11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>
              <a:off x="2392560" y="3429000"/>
              <a:ext cx="1134000" cy="11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>
              <a:off x="1752480" y="3677760"/>
              <a:ext cx="1774800" cy="11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1752480" y="3944520"/>
              <a:ext cx="1774800" cy="11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Rectangle 16"/>
          <p:cNvSpPr/>
          <p:nvPr/>
        </p:nvSpPr>
        <p:spPr>
          <a:xfrm>
            <a:off x="0" y="-3070080"/>
            <a:ext cx="91440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114480" y="-16700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304920" y="457200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Arial"/>
              </a:rPr>
              <a:t>Η ΟΙΚΟΝΟΜΙΑ ΤΗΣ ΡΩΣΙΑΣ</a:t>
            </a:r>
            <a:r>
              <a:rPr b="0" lang="el-GR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ffffff"/>
                </a:solidFill>
                <a:uFillTx/>
                <a:latin typeface="Arial"/>
              </a:rPr>
              <a:t>Συνοπτική παρουσίαση στοιχείων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0" y="9151920"/>
            <a:ext cx="91440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990720" cy="8380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1"/>
          <p:cNvSpPr/>
          <p:nvPr/>
        </p:nvSpPr>
        <p:spPr>
          <a:xfrm>
            <a:off x="1371600" y="915120"/>
            <a:ext cx="64008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ΠΡΕΣΒΕΙΑ ΤΗΣ ΕΛΛΑΔΟΣ ΣΤΗ ΜΟΣΧ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ΓΡΑΦΕΙΟ ΟΙΚΟΝΟΜΙΚΩ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</a:rPr>
              <a:t>ΚΑΙ ΕΜΠΟΡΙΚΩΝ ΥΠΟΘΕΣΕΩ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3" descr="Russia_flags"/>
          <p:cNvPicPr/>
          <p:nvPr/>
        </p:nvPicPr>
        <p:blipFill>
          <a:blip r:embed="rId2"/>
          <a:stretch/>
        </p:blipFill>
        <p:spPr>
          <a:xfrm>
            <a:off x="5943600" y="3048120"/>
            <a:ext cx="175248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F155-BB39-4D22-B7A7-2C02F840B29B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304920" y="383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ΞΕΛΙΞΗ ΕΞΩΤΕΡΙΚΟΥ ΧΡΕΟΥ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(σε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US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$ δι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38"/>
          <p:cNvGraphicFramePr/>
          <p:nvPr/>
        </p:nvGraphicFramePr>
        <p:xfrm>
          <a:off x="0" y="1523880"/>
          <a:ext cx="91440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A3A7-2D01-4B1E-B355-97B52E5936AE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ΔΙΑΡΘΡΩΣΗ ΑΠΑΣΧΟΛΗΣΗΣ (2007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990720" y="1523880"/>
          <a:ext cx="693396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693396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A7C4-CF8B-45B8-8BE9-5450422605FC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55"/>
          <p:cNvSpPr/>
          <p:nvPr/>
        </p:nvSpPr>
        <p:spPr>
          <a:xfrm>
            <a:off x="0" y="539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59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60"/>
          <p:cNvSpPr/>
          <p:nvPr/>
        </p:nvSpPr>
        <p:spPr>
          <a:xfrm>
            <a:off x="228600" y="231120"/>
            <a:ext cx="84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ΞΕΛΙΞΗ ΑΠΑΣΧΟΛΗΣΗΣ ΚΑΙ ΑΝΕΡΓΙΑΣ (1996-200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78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177"/>
          <p:cNvGraphicFramePr/>
          <p:nvPr/>
        </p:nvGraphicFramePr>
        <p:xfrm>
          <a:off x="533520" y="1371600"/>
          <a:ext cx="8076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1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076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5F5D-B613-400C-B098-15F8DECC4371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ΞΕΛΙΞΗ ΕΙΣΟΔΗΜΑΤΩΝ ΣΤΗ ΡΩΣΙΑ </a:t>
            </a:r>
            <a:br>
              <a:rPr sz="2400"/>
            </a:b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(2000-200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828800"/>
          <a:ext cx="8229600" cy="4336920"/>
        </p:xfrm>
        <a:graphic>
          <a:graphicData uri="http://schemas.openxmlformats.org/drawingml/2006/table">
            <a:tbl>
              <a:tblPr/>
              <a:tblGrid>
                <a:gridCol w="2133720"/>
                <a:gridCol w="990360"/>
                <a:gridCol w="1067040"/>
                <a:gridCol w="1066680"/>
                <a:gridCol w="990720"/>
                <a:gridCol w="990360"/>
                <a:gridCol w="990720"/>
              </a:tblGrid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ΑΥΞΗΣΗ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ΠΡΑΓΜΑΤΙΚΩΝ ΕΙΣΟΔΗΜΑΤΩ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ΔΙΑΘΕΣΙΜΑ ΣΤΟΝ ΠΛΗΘΥΣΜ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ΜΕΣΟΣ  ΜΙΣΘΟΣ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,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9,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6,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8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8,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9,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8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ΑΝΑΠΤΥΞΗ ΤΗΣ ΚΑΤΑΝΑΛΩΣΗΣ ΝΟΙΚΟΚΥΡΙΩ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,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,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,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,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ΜΕΣΟΣ ΚΑΤΩΤΕΡΟΣ ΜΙΣΘΟΣ ΣΕ 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5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ΜΕΣΟΣ ΚΑΤΩΤΕΡΟΣ ΜΙΣΘΟΣ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ΣΕ ΡΟΥΒΛΙΑ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4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2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27EB-7A95-4B27-A9B1-7612687FE706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ΞΕΛΙΞΗ ΕΜΠΟΡΙΚΟΥ ΙΣΟΖΥΓΙΟΥ (1997-200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)</a:t>
            </a:r>
            <a:br>
              <a:rPr sz="2400"/>
            </a:b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(σε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US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$ δισ.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600200"/>
          <a:ext cx="8229600" cy="4057560"/>
        </p:xfrm>
        <a:graphic>
          <a:graphicData uri="http://schemas.openxmlformats.org/drawingml/2006/table">
            <a:tbl>
              <a:tblPr/>
              <a:tblGrid>
                <a:gridCol w="757080"/>
                <a:gridCol w="1300320"/>
                <a:gridCol w="1122480"/>
                <a:gridCol w="1225440"/>
                <a:gridCol w="1247760"/>
                <a:gridCol w="1303200"/>
                <a:gridCol w="1273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ΕΙΣΑΓΩΓΕ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μεταβολ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ΕΞΑΓΩΓΕ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μεταβολ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ΕΜΠΟΡΙΚ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ΙΣΟΖΥΓΙ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μεταβολ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,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7,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26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,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38,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17,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5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11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22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8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14480"/>
                          <a:tab algn="ctr" pos="40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27,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3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43,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11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10,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3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6,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25,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26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11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32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3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3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,9</a:t>
                      </a: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139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,7</a:t>
                      </a: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3,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3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,1</a:t>
                      </a: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2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,5</a:t>
                      </a: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Text Box 376"/>
          <p:cNvSpPr/>
          <p:nvPr/>
        </p:nvSpPr>
        <p:spPr>
          <a:xfrm>
            <a:off x="533520" y="5943600"/>
            <a:ext cx="472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" spc="-1" strike="noStrike" u="sng">
                <a:solidFill>
                  <a:srgbClr val="ffffff"/>
                </a:solidFill>
                <a:uFillTx/>
                <a:latin typeface="Arial"/>
              </a:rPr>
              <a:t>Πηγή:</a:t>
            </a:r>
            <a:r>
              <a:rPr b="0" lang="el-GR" sz="800" spc="-1" strike="noStrike">
                <a:solidFill>
                  <a:srgbClr val="ffffff"/>
                </a:solidFill>
                <a:latin typeface="Arial"/>
              </a:rPr>
              <a:t> Στατιστική Υπηρεσία Ρωσία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9B12-12BD-4BF0-BC09-DB3AD2919E72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ΠΟΡΕΙΑ ΕΞΩΤΕΡΙΚΟΥ ΕΜΠΟΡΙΟΥ ΡΩΣΙΑΣ (2000-2007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1219320" y="1523880"/>
          <a:ext cx="70102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70102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B077-701B-49CB-834C-F5175A819F74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ΚΥΡΙΟΤΕΡΟΙ ΕΜΠΟΡΙΚΟΙ ΕΤΑΙΡΟΙ-ΠΡΟΜΗΘΕΥΤΕΣ ΤΗΣ ΡΩΣΙΑΣ (2001- 200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086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425D-DA33-42EA-8249-30015F7BD8C7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ΟΙ ΚΥΡΙΟΤΕΡΟΙ ΕΜΠΟΡΙΚΟΙ ΕΤΑΙΡΟΙ ΤΗΣ ΡΩΣΙΑΣ</a:t>
            </a:r>
            <a:br>
              <a:rPr sz="2400"/>
            </a:b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 (σε % εκατ.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1219320" y="1370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ΕΙΣΑΓΩΓΕΣ</a:t>
            </a:r>
            <a:r>
              <a:rPr b="1" lang="el-GR" sz="11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ΣΕ ΡΩΣΙ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57200" y="1752480"/>
          <a:ext cx="3809880" cy="4624560"/>
        </p:xfrm>
        <a:graphic>
          <a:graphicData uri="http://schemas.openxmlformats.org/drawingml/2006/table">
            <a:tbl>
              <a:tblPr/>
              <a:tblGrid>
                <a:gridCol w="1038240"/>
                <a:gridCol w="692280"/>
                <a:gridCol w="695160"/>
                <a:gridCol w="692280"/>
                <a:gridCol w="691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Χώρ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Γερμανί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,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Λευκο-ρωσί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Ουκρανί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Κίν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ΗΠ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Ιταλί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Κορέ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Γαλλί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αζακστ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ά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Ελλά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Σύνολο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Σύνολο  χωρώ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σε δις $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Rectangle 519"/>
          <p:cNvSpPr/>
          <p:nvPr/>
        </p:nvSpPr>
        <p:spPr>
          <a:xfrm>
            <a:off x="5568840" y="1371960"/>
            <a:ext cx="21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ΕΞΑΓΩΓΕΣ ΑΠΟ</a:t>
            </a:r>
            <a:r>
              <a:rPr b="1" lang="el-GR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ΡΩΣΙ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648320" y="1752480"/>
          <a:ext cx="4038480" cy="3624480"/>
        </p:xfrm>
        <a:graphic>
          <a:graphicData uri="http://schemas.openxmlformats.org/drawingml/2006/table">
            <a:tbl>
              <a:tblPr/>
              <a:tblGrid>
                <a:gridCol w="1218960"/>
                <a:gridCol w="685800"/>
                <a:gridCol w="655920"/>
                <a:gridCol w="715680"/>
                <a:gridCol w="762120"/>
              </a:tblGrid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Χώρ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Ευρωπαϊκή Ένωσ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5,4%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Ασί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ΗΠ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Κοινοπ-ολιτεί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Άλλο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Ελλάς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Σύνολο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Σύνολο χωρώ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σε δις 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6C4C-2F50-42E2-B4E8-3290E736DF55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ΣΥΝΘΕΣΗ ΕΞΩΤΕΡΙΚΟΥ ΕΜΠΟΡΙΟΥ ΡΩΣΙΑΣ (2007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600200"/>
          <a:ext cx="8229600" cy="3787920"/>
        </p:xfrm>
        <a:graphic>
          <a:graphicData uri="http://schemas.openxmlformats.org/drawingml/2006/table">
            <a:tbl>
              <a:tblPr/>
              <a:tblGrid>
                <a:gridCol w="3657600"/>
                <a:gridCol w="844560"/>
                <a:gridCol w="2889360"/>
                <a:gridCol w="8380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ΕΙΣΑΓΩΓΕΣ ΣΕ ΡΩΣΙΑ (σε 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ΕΞΑΓΩΓΕΣ ΑΠΟ ΡΩΣΙΑ (σε 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ΠΡΟΪΟΝΤΑ ΕΞΟΠΛΙΣΜΟΥ ΚΑΙ ΜΕΤΑΦΟΡΩ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4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ΠΕΤΡΕΛΑΙΟΕΙΔ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5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ΤΡΟΦΙΜΑ – ΓΕΩΡΓΙΚ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ΜΕΤΑΛΛΟΥΡΓΙΚ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ΜΕΤΑΛΛΙΚΑ ΠΡΟΪΟΝΤ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ΜΕΤΑΦΟΡΙΚΑ ΜΕΣ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ΧΗΜΙΚ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ΧΗΜΙΚ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ΚΛΩΣΤΟΫΦΑΝΤΟΥΡΓΙΚ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ΞΥΛΕΙ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ΠΡΟΪΟΝΤΑ ΞΥΛΕΙΑΣ ΧΑΡΤΙΚ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ΤΡΟΦΙΜΑ –ΓΕΩΡΓΙΚ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ΑΛΛ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ΚΛΩΣΤΟΥΦΑΝΤΟΥΡΓΙΚ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ΠΕΤΡΕΛΑΙΟΕΙΔ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ΑΛΛ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35" name="Text Box 497"/>
          <p:cNvSpPr/>
          <p:nvPr/>
        </p:nvSpPr>
        <p:spPr>
          <a:xfrm>
            <a:off x="457200" y="5943600"/>
            <a:ext cx="449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Arial"/>
              </a:rPr>
              <a:t>(Στοιχεία Στατιστική Υπηρεσία Ρωσίας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CEAB-D4B8-437D-B51A-3EBFAF9FFB1F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ΠΟΡΕΙΑ ΔΙΜΕΡΟΥΣ ΕΜΠΟΡΙΟΥ ΕΛΛΑΔΟΣ-ΡΩΣΙΑΣ (1999-2006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4"/>
          <p:cNvGraphicFramePr/>
          <p:nvPr/>
        </p:nvGraphicFramePr>
        <p:xfrm>
          <a:off x="990720" y="1600200"/>
          <a:ext cx="7010280" cy="40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01028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2121-5A5C-46D1-AB39-79C881D17542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7010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Ο ΧΑΡΤΗΣ ΤΗΣ ΡΩΣΙΑ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0" y="0"/>
            <a:ext cx="2919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20" descr="mrussia1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3677-9C8F-4283-BB86-A530D4B1592A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ΜΠΟΡΙΚΕΣ ΣΧΕΣΕΙΣ ΕΛΛΑΔΟΣ-ΡΩΣΙΑΣ (2004-2006)</a:t>
            </a:r>
            <a:br>
              <a:rPr sz="2400"/>
            </a:b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(αξία σε εκατ.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US$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219320" y="1828800"/>
          <a:ext cx="6365880" cy="3505320"/>
        </p:xfrm>
        <a:graphic>
          <a:graphicData uri="http://schemas.openxmlformats.org/drawingml/2006/table">
            <a:tbl>
              <a:tblPr/>
              <a:tblGrid>
                <a:gridCol w="1828800"/>
                <a:gridCol w="1054080"/>
                <a:gridCol w="1133280"/>
                <a:gridCol w="1135080"/>
                <a:gridCol w="121464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l-GR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ΟΓΚΟΣ ΕΜΠΟΡΙΟ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5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3.6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89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3.486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ΕΛΛΗΝΙΚΕΣ ΕΞΑΓΩΓΕ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75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319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356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ΕΛΛΗΝΙΚΕΣ ΕΙΣΑΓΩΓΕ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5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ΕΜΠΟΡΙΚΟ ΙΣΟΖΥΓΙ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-2.0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3.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-3.1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-3.</a:t>
                      </a: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4519-3717-4409-846E-1B165A78BE88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66"/>
                </a:solidFill>
                <a:latin typeface="Arial"/>
              </a:rPr>
              <a:t>ΕΜΠΟΡΙΚΟ ΙΣΟΖΥΓΙΟ ΕΛΛΑΔΟΣ-ΡΩΣΙΑΣ</a:t>
            </a:r>
            <a:r>
              <a:rPr b="1" lang="el-GR" sz="24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ΛΛΗΝΙΚΕΣ ΕΞΑΓΩΓΕΣ (αξία σε € εκατ.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8600" y="1447920"/>
          <a:ext cx="8610480" cy="4798800"/>
        </p:xfrm>
        <a:graphic>
          <a:graphicData uri="http://schemas.openxmlformats.org/drawingml/2006/table">
            <a:tbl>
              <a:tblPr/>
              <a:tblGrid>
                <a:gridCol w="838080"/>
                <a:gridCol w="2819520"/>
                <a:gridCol w="1295280"/>
                <a:gridCol w="1295640"/>
                <a:gridCol w="1218960"/>
                <a:gridCol w="1143000"/>
              </a:tblGrid>
              <a:tr h="120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Δασ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κατ/ρί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Περιγραφ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Αξία 2007 (€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% επί συνόλο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Αξία 2006 (€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Μεταβολή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6/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Γουνοδέρματα, γουναρικά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6.210.5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,3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8.253.6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1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Νωπά φρούτα, λαχανικά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4.012.0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9,55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7.757.1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+25,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Παρασκευάσματα λαχανικών &amp; Φρούτω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.667.5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14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.966.3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0,3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l-GR" sz="1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Ψυγεία Μηχανέ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27.757.1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8,14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0.598.4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+170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Χρώματα, χρωστικές ύλε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597.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.214.1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3,6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Καπνά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6.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309.2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4,49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6.220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+3,1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Πλαστικές ύλε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83.0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,0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015.4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26,1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Ορυκτά - καύσιμ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0.103.8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,08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635.5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+57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Προϊόντα αλουμινίο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426.7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872.9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,7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Καλλυντικά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368.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,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6.932.5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+6,1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5B70-B796-4BB4-BDF8-40F02A99F303}" type="datetime">
              <a:rPr b="0" lang="en-GB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5B3E-0DCB-4A4D-A03E-439A123B57D6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66"/>
                </a:solidFill>
                <a:latin typeface="Arial"/>
              </a:rPr>
              <a:t>ΕΜΠΟΡΙΚΟ ΙΣΟΖΥΓΙΟ ΡΩΣΙΑΣ – ΕΛΛΑΔΟΣ </a:t>
            </a:r>
            <a:br>
              <a:rPr sz="2600"/>
            </a:b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ΛΛΗΝΙΚΕΣ ΕΙΣΑΓΩΓΕΣ</a:t>
            </a:r>
            <a:r>
              <a:rPr b="1" lang="el-GR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(αξία σε € εκατ.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2280" y="1905120"/>
          <a:ext cx="8839440" cy="4854600"/>
        </p:xfrm>
        <a:graphic>
          <a:graphicData uri="http://schemas.openxmlformats.org/drawingml/2006/table">
            <a:tbl>
              <a:tblPr/>
              <a:tblGrid>
                <a:gridCol w="762120"/>
                <a:gridCol w="2459160"/>
                <a:gridCol w="1807920"/>
                <a:gridCol w="1219320"/>
                <a:gridCol w="1371600"/>
                <a:gridCol w="1219320"/>
              </a:tblGrid>
              <a:tr h="7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Δασ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κατ/ρί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Περιγραφή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Αξία 200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(€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 επί συνόλο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Αξία 200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(€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Μεταβολή 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2005/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Αργό πετρέλαιο και προϊόντα αυτο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6.430.9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9,74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22.072.0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4,57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Αλουμίνι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6.113.7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8,17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51.403.3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9,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Σίδηρο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1.1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.263.5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18,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Χαλκό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48.749.6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1,53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6.661.9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+50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Ξυλεί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921.6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.315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22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Δημητριακ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88.631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6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,81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4.860.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+100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Χαρτί, χαρτόν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868.8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683.6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23,5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Ηλιέλαι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9.389.0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0,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5.862.5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26,66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Λιπάσματ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419.0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</a:t>
                      </a: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907.9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4,44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Γουνοδέρματα ακατέργαστ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196.1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9.907.9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r>
                        <a:rPr b="0" lang="en-GB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4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6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3EF-2382-433F-B06F-78B04D61C156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981080" y="228600"/>
          <a:ext cx="5562720" cy="214956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21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ΠΡΟΟΔΟΣ ΤΩΝ ΕΠΕΝΔΥΣΕΩΝ ΚΕΦΑΛΑΙΟΥ ΣΤΗ ΡΩΣΙΑ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Προσέλκυση επενδύσεων στη Ρωσία:             48,9 δις$ το 2007 έναντι 30 δις$ το 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Ρωσικές επενδύσεις στο εξωτερικό το 2007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7,8 δις 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1981080" y="2971800"/>
          <a:ext cx="5562720" cy="24130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</a:tblGrid>
              <a:tr h="68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ΠΟΡΕΙΑ ΤΩΝ ΕΠΕΝΔΥΣΕΩΝ ΣΤΗ ΡΩΣΙΑ (% ΑΕΠ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ΕΤΟΣ</a:t>
                      </a:r>
                      <a:r>
                        <a:rPr b="0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% ΣΤΟ ΑΕ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,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,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8A75-7531-46FE-B2E1-B8C94E1599E6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ΞΕΝΕΣ ΕΠΕΝΔΥΣΕΙΣ ΣΕ ΡΩΣΙΑ (2007)</a:t>
            </a:r>
            <a:br>
              <a:rPr sz="2400"/>
            </a:b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US$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 εκατ.)</a:t>
            </a:r>
            <a:br>
              <a:rPr sz="2400"/>
            </a:b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Σημαντικότεροι επενδυτές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752480" y="1676520"/>
          <a:ext cx="6248520" cy="3305160"/>
        </p:xfrm>
        <a:graphic>
          <a:graphicData uri="http://schemas.openxmlformats.org/drawingml/2006/table">
            <a:tbl>
              <a:tblPr/>
              <a:tblGrid>
                <a:gridCol w="2133720"/>
                <a:gridCol w="1905120"/>
                <a:gridCol w="2209680"/>
              </a:tblGrid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Χώρα προέλευση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Ποσοστό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επί του συνόλο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l-GR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ΚΥΠΡΟ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5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ΟΛΛΑΝΔΙ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2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ΒΕΡΜΟΥΔΕ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6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ΜΕΓ. ΒΡΕΤΑΝΝΙ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2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ΗΠ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ΝΟΡΒΗΓΙ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2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ΓΙΒΡΑΛΤΑ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ΣΥΝΟΛ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73,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33.3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62" name="Text Box 316"/>
          <p:cNvSpPr/>
          <p:nvPr/>
        </p:nvSpPr>
        <p:spPr>
          <a:xfrm>
            <a:off x="1752480" y="5410080"/>
            <a:ext cx="52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 u="sng">
                <a:solidFill>
                  <a:srgbClr val="ffffff"/>
                </a:solidFill>
                <a:uFillTx/>
                <a:latin typeface="Arial"/>
              </a:rPr>
              <a:t>Πηγή:</a:t>
            </a:r>
            <a:r>
              <a:rPr b="0" lang="el-GR" sz="800" spc="-1" strike="noStrike">
                <a:solidFill>
                  <a:srgbClr val="ffffff"/>
                </a:solidFill>
                <a:latin typeface="Arial"/>
              </a:rPr>
              <a:t> Στατιστική Υπηρεσία της Ρωσίας (2006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29BA-8A42-4732-B077-0A0582EC06F4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ΞΕΝΕΣ ΕΠΕΝΔΥΣΕΙΣ ΣΕ ΡΩΣΙΑ ΑΝΑ ΤΟΜΕΑ ΣΤΗ ΡΩΣΙΑ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21EB-977F-471D-B859-13BA77C4452F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ΞΕΝΕΣ ΕΠΕΝΔΥΣΕΙΣ ΣΤΗ ΡΩΣΙΑ ΑΝΑ ΠΕΡΙΦΕΡΕΙΑ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8EE0-2FE6-460B-9AE9-65B138ADFA71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ΛΛΗΝΙΚΕΣ ΕΠΕΝΔΥΣΕΙΣ </a:t>
            </a:r>
            <a:br>
              <a:rPr sz="2400"/>
            </a:b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ΣΕ ΡΩΣΙΑ (2006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ΟΙ ΕΛΛΗΝΙΚΕΣ ΕΠΕΝΔΥΣΕΙΣ, ΣΥΜΦΩΝΑ ΜΕ ΤΟ ΕΠΕΝΔΕΔΥΜΕΝΟ ΚΕΦΑΛΑΙΟ, ΕΚΤΙΜΟΥΝΤΑΙ ΣΕ </a:t>
            </a:r>
            <a:r>
              <a:rPr b="0" lang="el-GR" sz="2000" spc="-1" strike="noStrike">
                <a:solidFill>
                  <a:srgbClr val="ff3300"/>
                </a:solidFill>
                <a:latin typeface="Arial"/>
              </a:rPr>
              <a:t>€ 2, 5 δι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ΟΙ ΕΛΛΗΝΙΚΕΣ ΕΠΙΧΕΙΡΗΣΕΙΣ ΔΡΑΣΤΗΡΙΟΠΟΙΟΥΝΤΑΙ ΣΤΟΥΣ ΤΟΜΕΙΣ, ΒΙΟΜΗΧΑΝΙΑΣ ΤΡΟΦΙΜΩΝ, ΕΜΠΟΡΙΟ, ΚΑΤΑΣΚΕΥΕΣ, ΔΙΑΝΟΜΗ, ΥΠΗΡΕΣΙΕ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5B63-6EF1-4551-8542-7DBBEC9D067F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ΟΙ ΜΕΓΑΛΥΤΕΡΕΣ ΕΛΛΗΝΙΚΕΣ ΕΠΕΝΔΥΣΕΙΣ ΣΕ ΡΩΣΙΑ (2007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14400" y="914400"/>
          <a:ext cx="7620120" cy="4780080"/>
        </p:xfrm>
        <a:graphic>
          <a:graphicData uri="http://schemas.openxmlformats.org/drawingml/2006/table">
            <a:tbl>
              <a:tblPr/>
              <a:tblGrid>
                <a:gridCol w="1693800"/>
                <a:gridCol w="1608120"/>
                <a:gridCol w="1397160"/>
                <a:gridCol w="1714320"/>
                <a:gridCol w="1206720"/>
              </a:tblGrid>
              <a:tr h="623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ΟΝΟΜΑ ΕΤΑΙΡΕΙΑ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ΣΤΗ ΡΩΣΙΑ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ΟΝΟΜΑ ΕΤΑΙΡΕΙΑ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99"/>
                          </a:solidFill>
                          <a:latin typeface="Arial"/>
                          <a:ea typeface="Arial Unicode MS"/>
                        </a:rPr>
                        <a:t>ΣΤΗΝ ΕΛΛΑΔΑ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ΠΟΣ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ΕΠΕΝΔΥΣΗΣ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(σε €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ΔΡΑΣΤΗΡΙΟΤΗΤΑ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ΑΡΙΘΜΟ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ΥΠΑΛΛΗΛΩ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CA COLA-HB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E HELLENIC BOTTLING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5.000.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A</a:t>
                      </a:r>
                      <a:r>
                        <a:rPr b="0" lang="el-GR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Ψ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KTIK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LT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E HELLENIC BOTTLING COMPAN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2.000.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ΑΝΑΨΥΚΤΙΚΑ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QUAVIS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E HELLENIC BOTTLING COMPAN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.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ΑΚΙΝΗΤΑ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ETHEU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ETHEUS ARFANIS CHIONIS</a:t>
                      </a: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00.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ΤΣΙΜΕΝΤ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HANIKI RUSSIA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HANIK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.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PIT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PIT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.000.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ΤΡΟΦΙΜΑ ΚΡΟΥΑΣΑ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G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GA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00.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ΛΕΥΚΑ ΕΙΔΗ ΚΑΤΑΣΤΗΜΑΤΑ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CC FRIGOGLAS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E H.B.C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000.0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ΨΥΓΕΙΑ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ΣΥΝΟΛ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48.7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7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9739-F82B-41DF-BBEE-CB65EF1CBEBF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ΠΡΟΣΒΑΣΗ ΣΤΗΝ ΑΓΟΡΑ ΤΗΣ ΡΩΣΙΑΣ</a:t>
            </a:r>
            <a:br>
              <a:rPr sz="2400"/>
            </a:b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 ΠΡΑΚΤΙΚΕΣ ΠΛΗΡΟΦΟΡΙΕΣ</a:t>
            </a:r>
            <a:r>
              <a:rPr b="0" lang="el-GR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608040" y="285840"/>
            <a:ext cx="7929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04920" y="1143000"/>
          <a:ext cx="8534160" cy="4967280"/>
        </p:xfrm>
        <a:graphic>
          <a:graphicData uri="http://schemas.openxmlformats.org/drawingml/2006/table">
            <a:tbl>
              <a:tblPr/>
              <a:tblGrid>
                <a:gridCol w="4765680"/>
                <a:gridCol w="3768480"/>
              </a:tblGrid>
              <a:tr h="36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ΚΟΣΤΟΣ ΕΡΓΑΣΙΑΣ</a:t>
                      </a: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Ελάχιστος μισθό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 / μήνα (καθαρ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Μέσος μισθό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/ μήνα (καθαρό) εξαρτάται από την περιοχή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6   Μόσχ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4   Αγία Πετρούπολ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5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vosibir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ΚΟΣΤΟΣ ΙΔΡΥΣΗΣ  ΕΤΑΙΡΕΙΑ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Προϋπολογισμός ίδρυσης Γραφείου Αντιπροσωπεία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συμπεριλαμβανομένων συμβολαίων αδειών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€10.000 – 35.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Προϋπολογισμός δημιουργίας ‘ joint venture’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εξαρτάται από το επίπεδο της εμπορικής συνεργασία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.000 – 4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Εγγραφή εμπορικών εταιρειών στην εφορί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Χαρτόσημο 2000 ρούβλια ($70) η διάρκεια εγγραφής 5 εργάσιμες ημέρε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E346-0AC5-4E23-9E67-400B414A5EAE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2160" y="421920"/>
            <a:ext cx="6586560" cy="67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ΠΕΡΙΕΧΟΜΕΝΑ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ΑΕΠ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ΚΛΑΔΟΙ ΤΗΣ ΡΩΣΙΚΗΣ ΟΙΚΟΝΟΜΙΑΣ (ΓΕΩΡΓΙΑ, ΒΙΟΜΗΧΑΝΙΑ, ΥΠΗΡΕΣΙΕΣ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ΠΛΗΘΩΡΙΣΜΟΣ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ΕΛΛΕΙΜΜΑ ΤΡΕΧΟΥΣΩΝ ΣΥΝΑΛΛΑΓΩΝ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ΕΞΩΤΕΡΙΚΟ ΧΡΕΟ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ΑΝΕΡΓΙΑ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ΚΑΤΑΝΑΛΩΣΗ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ΕΞΩΤΕΡΙΚΟ ΕΜΠΟΡΙΟ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3300"/>
                </a:solidFill>
                <a:latin typeface="Arial"/>
              </a:rPr>
              <a:t>ΕΜΠΟΡΙΚΕΣ ΣΧΕΣΕΙΣ ΕΛΛΑΔΑΣ- ΡΩΣΙΑ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ΕΠΕΝΔΥΣΕΙΣ ΣΕ ΡΩΣΙΑ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3300"/>
                </a:solidFill>
                <a:latin typeface="Arial"/>
              </a:rPr>
              <a:t>ΕΛΛΗΝΙΚΕΣ ΕΠΕΝΔΥΣΕΙΣ ΣΕ ΡΩΣΙΑ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ΠΡΟΣΒΑΣΗ ΣΤΗΝ ΑΓΟΡΑ ΤΗΣ ΡΩΣΙΑΣ – ΠΡΑΚΤΙΚΕΣ ΠΛΗΡΟΦΟΡΙΕ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ΣΥΜΒΟΥΛΕΣ ΣΕ ΕΛΛΗΝΕΣ ΕΞΑΓΩΓΕΙ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476"/>
              </a:spcBef>
              <a:buClr>
                <a:srgbClr val="cce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900" spc="-1" strike="noStrike">
                <a:solidFill>
                  <a:srgbClr val="ffffff"/>
                </a:solidFill>
                <a:latin typeface="Arial"/>
              </a:rPr>
              <a:t>ΗΛΕΚΤΡΟΝΙΚΕΣ ΔΙΕΥΘΥΝΣΕΙ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601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1527-1603-44A3-95C3-B295BFAAE500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594320"/>
                <a:gridCol w="3635280"/>
              </a:tblGrid>
              <a:tr h="431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ΥΠΗΡΕΣΙΕΣ (μέσος όρος)</a:t>
                      </a:r>
                      <a:r>
                        <a:rPr b="1" lang="el-GR" sz="14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Οικονομικός Διευθυντή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$4000 -10.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Διευθυντής Λογιστηρίο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$3000 -   4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Λογιστή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$2000 – 2.5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Διευθυντής Παραγωγή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$2.000 – 3.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Διευθυντής Π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σωπικού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$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00 – 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Πληροφορικ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ής υπάλληλο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$1.00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Διευθυντής Πληροφορική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$2000 -5000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Βοηθός  Προσωπικο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$700 -2000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Γραμματέα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$600 – 1.500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ΠΡΟΣΒΑΣΗ ΣΤΗΝ ΑΓΟΡΑ ΤΗΣ ΡΩΣΙΑ</a:t>
            </a:r>
            <a:br>
              <a:rPr sz="2400"/>
            </a:b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 ΠΡΑΚΤΙΚΕΣ ΠΛΗΡΟΦΟΡΙΕΣ</a:t>
            </a:r>
            <a:r>
              <a:rPr b="0" lang="el-GR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626F-2613-4E45-AB22-76BA6F0258DF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ΣΥΜΒΟΥΛΕΣ  ΓΙΑ ΤΗΝ ΕΠΙΤΥΧΗ  ΠΡΟΣΒΑΣΗ ΣΤΗ ΡΩΣΙΚΗ  ΑΓΟΡΑ</a:t>
            </a:r>
            <a:r>
              <a:rPr b="0" lang="el-GR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100" spc="-1" strike="noStrike">
                <a:solidFill>
                  <a:srgbClr val="ffffff"/>
                </a:solidFill>
                <a:latin typeface="Arial"/>
              </a:rPr>
              <a:t>ΠΡΟΒΛΗΜΑ ΑΠΟΠΛΗΡΩΜΗΣ </a:t>
            </a:r>
            <a:r>
              <a:rPr b="1" lang="el-GR" sz="21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ff3300"/>
                </a:solidFill>
                <a:latin typeface="Arial"/>
              </a:rPr>
              <a:t>PAYMENT NOT RECEIVED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100" spc="-1" strike="noStrike">
                <a:solidFill>
                  <a:srgbClr val="ffffff"/>
                </a:solidFill>
                <a:latin typeface="Arial"/>
              </a:rPr>
              <a:t>ΤΟΠΟΘΕΤΗΣΗ ΣΤΕΛΕΧΟΥΣ ΑΠΟ ΕΛΛΑΔΑ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Arial"/>
              </a:rPr>
              <a:t>(FINDING THE RIGHT MANAGER FROM GREEC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Πριν την ανάληψη πρωτοβουλίας να εξετάζεται η δυνατότητα κάλυψης της αγοράς, λόγω μεγέθου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100" spc="-1" strike="noStrike">
                <a:solidFill>
                  <a:srgbClr val="ffffff"/>
                </a:solidFill>
                <a:latin typeface="Arial"/>
              </a:rPr>
              <a:t>ΔΙΕΡΕΥΝΗΣΗ ΑΓΟΡΑΣ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3300"/>
                </a:solidFill>
                <a:latin typeface="Arial"/>
              </a:rPr>
              <a:t>(MARKET RESEARCH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100" spc="-1" strike="noStrike">
                <a:solidFill>
                  <a:srgbClr val="ffffff"/>
                </a:solidFill>
                <a:latin typeface="Arial"/>
              </a:rPr>
              <a:t>ΠΡΟΣΩΠΙΚΕΣ ΕΠΑΦΕΣ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3300"/>
                </a:solidFill>
                <a:latin typeface="Arial"/>
              </a:rPr>
              <a:t>(PERSONAL CONTACT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Η επιτυχία στην Ρωσική αγορά εξαρτάται από την επιλογή συγκεκριμένου καλώς μελετημένου σχεδίου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Η εκκίνηση δραστηριότητος κάθε Έλληνα επιχειρηματία είναι η πρωτεύουσα του κράτους η Μόσχα, η Αγία Πετρούπολη αλλά με δυνατότητες διείσδυσης στην περιφέρεια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Προσεκτική έρευνα αγορά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Οι επιχειρηματικές συναντήσει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Διαθέσιμο εγχώριο εισόδημ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517D-C12C-48D9-AF32-1A1858F01B7A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16256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l-GR" sz="1800" spc="-1" strike="noStrike">
                <a:solidFill>
                  <a:srgbClr val="ccecff"/>
                </a:solidFill>
                <a:latin typeface="Arial"/>
              </a:rPr>
              <a:t>ΠΡΕΣΒΕΙΑ ΤΗΣ ΕΛΛΑΔΟΣ ΣΤΗ ΜΟΣΧΑ </a:t>
            </a:r>
            <a:br>
              <a:rPr sz="1800"/>
            </a:br>
            <a:br>
              <a:rPr sz="1800"/>
            </a:br>
            <a:r>
              <a:rPr b="1" lang="el-GR" sz="1800" spc="-1" strike="noStrike">
                <a:solidFill>
                  <a:srgbClr val="ccecff"/>
                </a:solidFill>
                <a:latin typeface="Arial"/>
              </a:rPr>
              <a:t>ΓΡΑΦΕΙΟ</a:t>
            </a:r>
            <a:br>
              <a:rPr sz="1800"/>
            </a:br>
            <a:r>
              <a:rPr b="1" lang="el-GR" sz="1800" spc="-1" strike="noStrike">
                <a:solidFill>
                  <a:srgbClr val="ccecff"/>
                </a:solidFill>
                <a:latin typeface="Arial"/>
              </a:rPr>
              <a:t>ΟΙΚΟΝΟΜΙΚΩΝ &amp; ΕΜΠΟΡΙΚΩΝ</a:t>
            </a:r>
            <a:br>
              <a:rPr sz="1800"/>
            </a:br>
            <a:r>
              <a:rPr b="1" lang="el-GR" sz="1800" spc="-1" strike="noStrike">
                <a:solidFill>
                  <a:srgbClr val="ccecff"/>
                </a:solidFill>
                <a:latin typeface="Arial"/>
              </a:rPr>
              <a:t>ΥΠΟΘΕΣΕΩΝ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838080" cy="75096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11"/>
          <p:cNvSpPr/>
          <p:nvPr/>
        </p:nvSpPr>
        <p:spPr>
          <a:xfrm>
            <a:off x="914400" y="3505320"/>
            <a:ext cx="71629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Διεύθυνση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Spiridonovka Ul.14, 121069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Μόσχ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Τηλ.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+7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495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6443270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Φαξ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+7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495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644 32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ecocom-moscow@mfa.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ebsite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agora.mfa.gr/russ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2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4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50D7-EDA3-40F2-AAAE-FF96995609DB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838080" y="533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ΞΕΛΙΞΗ ΑΕΠ ΡΩΣΙΑΣ (2000-200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62"/>
          <p:cNvSpPr/>
          <p:nvPr/>
        </p:nvSpPr>
        <p:spPr>
          <a:xfrm>
            <a:off x="0" y="4970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5"/>
          <p:cNvSpPr/>
          <p:nvPr/>
        </p:nvSpPr>
        <p:spPr>
          <a:xfrm>
            <a:off x="1344600" y="1598760"/>
            <a:ext cx="9223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18"/>
          <p:cNvSpPr/>
          <p:nvPr/>
        </p:nvSpPr>
        <p:spPr>
          <a:xfrm>
            <a:off x="14000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Object 129"/>
          <p:cNvGraphicFramePr/>
          <p:nvPr/>
        </p:nvGraphicFramePr>
        <p:xfrm>
          <a:off x="457200" y="1828800"/>
          <a:ext cx="82296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1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73B7-71DF-4D6E-B4E5-D5E1A9FC7A98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04920" y="1981080"/>
          <a:ext cx="8458200" cy="3926160"/>
        </p:xfrm>
        <a:graphic>
          <a:graphicData uri="http://schemas.openxmlformats.org/drawingml/2006/table">
            <a:tbl>
              <a:tblPr/>
              <a:tblGrid>
                <a:gridCol w="1722240"/>
                <a:gridCol w="3133800"/>
                <a:gridCol w="360216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Μεταβολή ΑΕΠ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Κατά κεφ. ΑΕΠ (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US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5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8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57"/>
          <p:cNvSpPr/>
          <p:nvPr/>
        </p:nvSpPr>
        <p:spPr>
          <a:xfrm>
            <a:off x="2133720" y="3049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58"/>
          <p:cNvSpPr/>
          <p:nvPr/>
        </p:nvSpPr>
        <p:spPr>
          <a:xfrm>
            <a:off x="1523880" y="6094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ΕΞΕΛΙΞΗ ΑΕΠ ΡΩΣΙΑΣ (2000-200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5C43-B4A8-4E53-8F38-CCDC6A136070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ΣΥΝΘΕΣΗ ΑΕΠ ΚΑΤΑ ΚΛΑΔΟΥΣ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990720" y="2033640"/>
          <a:ext cx="708660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33640"/>
                    <a:ext cx="708660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5345-0D96-4B25-A430-AA5C285B1BE6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ΠΛΗΘΩΡΙΣΜΟΣ ΤΗΣ ΡΩΣΙΑΣ (2000-200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0" lang="el-GR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380880" y="1600200"/>
          <a:ext cx="83059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3059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3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5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9C88-1BE2-46C9-80FF-A211847E45C4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ΠΛΗΘΩΡΙΣΜΟΣ ΣΕ ΧΩΡΕΣ ΝΑ. ΕΥΡΩΠΗ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(2007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457200" y="1981080"/>
          <a:ext cx="8305920" cy="32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305920" cy="32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2 - Θέση ημερομηνίας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ούνιος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4 - Θέση αριθμού διαφάνειας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32C7-9F86-4311-B97B-A33ED3914035}" type="slidenum">
              <a:rPr b="0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57200" y="23076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ΠΛΕΟΝΑΣΜΑ ΤΡΕΧΟΥΣΩΝ ΣΥΝΑΛΛΑΓΩ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(σε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US</a:t>
            </a:r>
            <a:r>
              <a:rPr b="1" lang="el-GR" sz="2400" spc="-1" strike="noStrike">
                <a:solidFill>
                  <a:srgbClr val="ff0066"/>
                </a:solidFill>
                <a:latin typeface="Arial"/>
              </a:rPr>
              <a:t>$ δι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28600" y="1295280"/>
          <a:ext cx="8115480" cy="746280"/>
        </p:xfrm>
        <a:graphic>
          <a:graphicData uri="http://schemas.openxmlformats.org/drawingml/2006/table">
            <a:tbl>
              <a:tblPr/>
              <a:tblGrid>
                <a:gridCol w="825480"/>
                <a:gridCol w="824040"/>
                <a:gridCol w="825480"/>
                <a:gridCol w="823680"/>
                <a:gridCol w="825480"/>
                <a:gridCol w="825840"/>
                <a:gridCol w="823680"/>
                <a:gridCol w="825480"/>
                <a:gridCol w="824040"/>
                <a:gridCol w="69228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Object 77"/>
          <p:cNvGraphicFramePr/>
          <p:nvPr/>
        </p:nvGraphicFramePr>
        <p:xfrm>
          <a:off x="1371600" y="2209680"/>
          <a:ext cx="68961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68961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08:07:16Z</dcterms:created>
  <dc:creator>Administrator</dc:creator>
  <dc:description/>
  <dc:language>en-US</dc:language>
  <cp:lastModifiedBy>user</cp:lastModifiedBy>
  <dcterms:modified xsi:type="dcterms:W3CDTF">2008-06-30T15:55:08Z</dcterms:modified>
  <cp:revision>283</cp:revision>
  <dc:subject/>
  <dc:title>PowerPoint Presentation</dc:title>
</cp:coreProperties>
</file>