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E1C-10F0-43F3-BC7C-0799A9A6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A3C-A3AF-4C9E-863C-F8AF0627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C68-5F8C-411B-BE8F-430BDC90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AFA-82DA-4214-898B-954D4478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C2AC-4496-48A7-8C9E-45D0585C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E5D8-872A-4DDB-B622-853857B4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6956-68FB-4A64-BE3A-2058E2E3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9D3B-7E4B-4CC1-A5AC-A16BC81C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C9FB-ECD0-4291-A1BC-072A12C8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D598-8BA8-49F3-AAE4-BDE585B4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EC35-F94C-43E4-99D2-B49E7C84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2DC-1119-434B-9412-C7000D35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793E-067B-418C-B340-9152B9E5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20DE-BEDA-49F2-A78E-2D27EE58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FFE6-AB05-4317-B93A-213F8CB2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583D-27ED-4D4C-8A84-B0CBBE85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0BCC-F597-41FC-88CE-0CC4EBFD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BA2-E814-4419-BC91-9A4D7AA9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BEF-D331-4C54-9FEF-B5276C13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FCF-435B-4C94-9E9B-7406754F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E62-0667-4206-9ACF-DF96F1A4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455-D8EF-4B96-A5A7-3A3B619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E2B-A231-48BF-A885-86272FA1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315-6BDF-4690-A4D2-984FA05C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38F4-DFC8-440B-B146-F41594D8F4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69E4-C6FE-410A-B3FF-4E89B0B06A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2060280"/>
            <a:ext cx="757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Βουλγαρία 2007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28428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Γραφείο ΟΕΥ Σόφια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Ν. Θωμόπουλο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Γραμματέας ΟΕΥ Α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Μισθοί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8980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 ωράριο εργασίας είναι 8 ώρες/ημέρα και 40 ώρες/εβδομάδ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α συμβόλαια εργασίας μπορούν να είνα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ορίστου χρόνο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Δοκιμαστικής περιόδου, που δεν υπερβαίνει το εξάμην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υγκεκριμένου χρόνο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just"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έντε (5) εργάσιμων ημερών το μήν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15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Ο κατώτερος μισθός ανέρχεται σε 220 λέβα και το ωρομίσθιο σε 1,30 λέβα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20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 2007, ο μέσος μηνιαίος μισθός ανήλθε σε 431 λέβα με μέσο ανώτερο τα 1.000 λέβα στον χρηματοπιστωτικό τομέα και μέσο κατώτερο τα 291 λέβα στον ξενοδοχειακό τομέα και τομέα εστίαση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Απολύσεις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82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Ομαδικές χαρακτηρίζονται οι απολύσεις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30456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Άνω των 10 για επιχειρήσεις με 20 – 100 εργαζόμενου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30456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Άνω του 10% για επιχειρήσεις με 100 – 300 εργαζόμενου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30456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Άνω των 30 για επιχειρήσεις με περισσότερους από 300 εργαζόμενου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-30456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Άνω των 20 εργαζομένων για όλες τις επιχειρήσεις, εφόσον πραγματοποιούνται εντός 90 ημερώ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Σε περίπτωση ομαδικής απόλυσης, η επιχείρηση υποχρεούνται να ενημερώσει το τοπικό γραφείο της Εθνικής Υπηρεσίας Απασχόλησης, τουλάχιστον 30 ημέρες πρι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Κατώτερη αποζημίωση απόλυσης το τετραπλό των αποδοχώ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Ασφαλιστικές Εισφορές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345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8480" indent="-34848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Οι εισφορές μεταβάλλονται κατά κατηγορία εργαζομένων και ηλικία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8480" indent="-348480" algn="just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 2008, ο κατώτερος μισθός ασφάλισης ορίσθηκε στα 240 λέβα και ο ανώτερος στα 2.000 λέβα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8480" indent="-348480" algn="just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Οι μέσες ασφαλιστικές εισφορές ανέρχονται σε 36,7% του μικτού μισθού και καταβάλλοντα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5880" indent="-4413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 2008 κατά 55% ο εργοδότης και 45% ο εργαζόμενος, δηλαδή οι εργοδοτικές εισφορές ανέρχονται σε 21% περίπο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5880" indent="-4413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πό το 2009 και μετά κατά 50% ο εργοδότης και 50% ο εργαζόμενος, δηλαδή οι εργοδοτικές εισφορές θα μειωθούν και θα παραμείνουν στο 18,5% περίπο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Φορολογία 1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Φόρος φυσικών προσώπων 10%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flat tax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ταιρικός φόρος 10%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at tax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Φόρος μερισμάτων 5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Φόρος Προστιθέμενης Αξίας (ΦΠΑ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1800" indent="-3866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Κανονικός 2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1800" indent="-386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Μειωμένος 7%, μόνον για ξενοδοχεία προς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ur opera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1800" indent="-386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Μηδενικός, μόνον για εξαγωγές &amp; ενδοκοινοτικές προμήθειε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Υποχρέωση για ΦΠΑ, μόνον όταν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1800" indent="-3866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Κύκλος εργασιών άνω των 50.000 λέβ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1800" indent="-386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νδοκοινοτικές προμήθειες άνω των 20.000 λέβ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1800" indent="-386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ωλήσεις εξ’ αποστάσεως άνω των 70.000 λέβ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Tahoma"/>
              </a:rPr>
              <a:t>Φορολογία 2</a:t>
            </a:r>
            <a:endParaRPr b="1" lang="en-US" sz="3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ιδικός φόρος κατανάλωσης επιβάλλεται στο αλκοόλ, τα προϊόντα καπνού, τα πολυτελή αυτοκίνητα, τον ηλεκτρισμό και το πετρέλαι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2001"/>
              </a:spcBef>
              <a:buClr>
                <a:srgbClr val="ffffcc"/>
              </a:buClr>
              <a:buSzPct val="7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α Δημοτικά Συμβούλια έχουν το δικαίωμα να θέτουν το ακριβές ύψος των δημοτικών φόρων και τελών, εντός του πλαισίου που θέτει ο νόμο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73000" indent="-415800" algn="just">
              <a:spcBef>
                <a:spcPts val="1001"/>
              </a:spcBef>
              <a:buClr>
                <a:srgbClr val="ffff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Δημοτικός φόρος σε όλα τα ακίνητα από 1,5% - 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73000" indent="-4158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έλη καθαριότητας σε όλα τα ακίνητα από 2,5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5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73000" indent="-4158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Δημοτικός φόρος μεταβίβασης ακινήτων από 2% - 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Φορολογικές απαλλαγές 1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ffffff"/>
              </a:buClr>
              <a:buSzPct val="7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Απαλλαγή βιομηχανιών από τον εταιρικό φόρο (10%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spcBef>
                <a:spcPts val="901"/>
              </a:spcBef>
              <a:buClr>
                <a:srgbClr val="ffffff"/>
              </a:buClr>
              <a:buFont typeface="Tahoma"/>
              <a:buChar char="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Όριο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Μέχρι 10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spcBef>
                <a:spcPts val="451"/>
              </a:spcBef>
              <a:buClr>
                <a:srgbClr val="ffffff"/>
              </a:buClr>
              <a:buFont typeface="Tahoma"/>
              <a:buChar char="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Προϋπόθεση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Ανεργία περιοχής μεγαλύτερη κατά 35% του εθνικού μέσου όρο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spcBef>
                <a:spcPts val="451"/>
              </a:spcBef>
              <a:buClr>
                <a:srgbClr val="ffffff"/>
              </a:buClr>
              <a:buFont typeface="Tahoma"/>
              <a:buChar char="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Ισχύς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Μια πενταετία, ανεξάρτητα από την πορεία της ανεργία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2500"/>
              </a:spcBef>
              <a:buClr>
                <a:srgbClr val="ffffff"/>
              </a:buClr>
              <a:buSzPct val="7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Μείωση του εταιρικού φόρου (1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spcBef>
                <a:spcPts val="901"/>
              </a:spcBef>
              <a:buClr>
                <a:srgbClr val="ffffff"/>
              </a:buClr>
              <a:buFont typeface="Tahoma"/>
              <a:buChar char="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Όριο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Μέχρι το 10% της αξίας των πάγιων επενδύσεων, με εξαίρεση τα επιβατικά αυτοκίνητ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spcBef>
                <a:spcPts val="451"/>
              </a:spcBef>
              <a:buClr>
                <a:srgbClr val="ffffff"/>
              </a:buClr>
              <a:buFont typeface="Tahoma"/>
              <a:buChar char="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Προϋπόθεση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Ανεργία περιοχής μεγαλύτερη κατά 50% του εθνικού μέσου όρο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spcBef>
                <a:spcPts val="499"/>
              </a:spcBef>
              <a:buClr>
                <a:srgbClr val="ffffff"/>
              </a:buClr>
              <a:buFont typeface="Tahoma"/>
              <a:buChar char="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Ισχύς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Μέχρι πλήρους έκπτωσης της μείωσης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Tahoma"/>
              </a:rPr>
              <a:t>Φορολογικές απαλλαγές 2</a:t>
            </a:r>
            <a:endParaRPr b="1" lang="en-US" sz="3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2960" cy="26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Έκπτωση από τα εταιρικά κέρδ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spcBef>
                <a:spcPts val="901"/>
              </a:spcBef>
              <a:buClr>
                <a:srgbClr val="ffffff"/>
              </a:buClr>
              <a:buFont typeface="Tahoma"/>
              <a:buChar char="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ahoma"/>
              </a:rPr>
              <a:t>Όριο: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 Οι αμοιβές και εργοδοτικές εισφορές μέχρι και 12 μήνε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ffffff"/>
              </a:buClr>
              <a:buFont typeface="Tahoma"/>
              <a:buChar char="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ahoma"/>
              </a:rPr>
              <a:t>Προϋπόθεση: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 Πρόσληψη  εγγεγραμμένων  ανέργω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2500"/>
              </a:spcBef>
              <a:buClr>
                <a:srgbClr val="ffffff"/>
              </a:buClr>
              <a:buSzPct val="70000"/>
              <a:buFont typeface="Wingdings 2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Πλήρης απαλλαγή από τον εταιρικό φόρο (1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spcBef>
                <a:spcPts val="901"/>
              </a:spcBef>
              <a:buClr>
                <a:srgbClr val="ffffff"/>
              </a:buClr>
              <a:buFont typeface="Tahoma"/>
              <a:buChar char="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ahoma"/>
              </a:rPr>
              <a:t>Προϋπόθεση: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 Εκτέλεση  έργων  τεχνικής συνεργασίας στο πλαίσιο των κοινοτικών προγραμμάτων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re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και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PA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Επενδυτικός Νόμος 1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46604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Οι επενδύσεις διακρίνονται σε δύο κατηγορίε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Κατηγορία 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15960" indent="-2613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Άνω των 70 εκατ. λέβ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15960" indent="-2613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Άνω των 45 εκατ. λέβα και ανεργία περιοχής μεγαλύτερη του εθνικού μέσου όρου και μέχρι 1,35 αυτού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15960" indent="-2613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Άνω των 35 εκατ. λέβα και ανεργία περιοχής μεγαλύτερη του 1,35 του εθνικού μέσου όρου ή επένδυση σε υψηλή τεχνολογία στη βιομηχανί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615960" indent="-2613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Άνω των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εκατ. λέβα και επένδυση σε υψηλή τεχνολογία στις υπηρεσίε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Επενδυτικός Νόμος 2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Κατηγορία 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66760"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Άνω των 40 εκατ. λέβ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66760"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Άνω των 25 εκατ. λέβα, και ανεργία περιοχής μεγαλύτερη του εθνικού μέσου όρου και μέχρι 1,35 αυτού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66760"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πενδύσεις άνω των 20 εκατ. λέβα και ανεργία περιοχής μεγαλύτερη του 1,35 του εθνικού μέσου όρου ή επένδυση σε υψηλή τεχνολογία στη βιομηχανί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8560" indent="-266760"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πενδύσεις άνω των 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εκατ. λέβα και επένδυση σε υψηλή τεχνολογία στις υπηρεσίε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Επενδυτικός Νόμος 3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29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Η βοήθεια που παρέχεται στις επενδύσεις είνα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6920" indent="-647640" algn="just">
              <a:spcBef>
                <a:spcPts val="10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Μικρότεροι χρόνοι για διοικητικές διαδικασίε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6920" indent="-647640" algn="just">
              <a:spcBef>
                <a:spcPts val="10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Ειδική διοικητική αντιμετώπιση (Α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6920" indent="-647640" algn="just">
              <a:spcBef>
                <a:spcPts val="10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Λιγότερες προϋποθέσεις για απόκτηση δημόσιας και δημοτικής ακίνητης περιουσία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6920" indent="-647640" algn="just">
              <a:spcBef>
                <a:spcPts val="10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Χρηματοοικονομική υποστήριξη για την κατασκευή υποδομών (Α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6920" indent="-647640" algn="just">
              <a:spcBef>
                <a:spcPts val="10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Χρηματοοικονομική υποστήριξη για την εκπαίδευση του προσωπικού μέχρι 29 ετώ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Τα επενδυτικά κίνητρα εξειδικεύονται και υλοποιούνται από την Βουλγαρική Υπηρεσία Επενδύσεω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Μακροοικονομικοί Δείκτες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42920" y="1989000"/>
          <a:ext cx="7705800" cy="3824280"/>
        </p:xfrm>
        <a:graphic>
          <a:graphicData uri="http://schemas.openxmlformats.org/drawingml/2006/table">
            <a:tbl>
              <a:tblPr/>
              <a:tblGrid>
                <a:gridCol w="3386160"/>
                <a:gridCol w="1042920"/>
                <a:gridCol w="1043280"/>
                <a:gridCol w="1042920"/>
                <a:gridCol w="1190520"/>
              </a:tblGrid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Έτο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τήσια αύξηση ΑΕΠ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ΑΕΠ (δις €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Κατά κεφαλήν ΑΕΠ (€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8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7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Πληθωρισμός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Ανεργία 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Πληθυσμός (χιλ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7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7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6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6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νεργός Πληθυσμός (χιλ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3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3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4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15480" y="6307560"/>
            <a:ext cx="406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Πηγή: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Στατιστική Υπηρεσία Βουλγαρίας, Κεντρική Τράπεζα Βουλγαρίας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Tahoma"/>
              </a:rPr>
              <a:t>Ευρωπαϊκά Προγράμματα</a:t>
            </a:r>
            <a:endParaRPr b="1" lang="en-US" sz="3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579640" y="2781360"/>
            <a:ext cx="33116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66"/>
                </a:solidFill>
                <a:latin typeface="Tahoma"/>
              </a:rPr>
              <a:t>Ανεύρεση προγραμμάτων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1.  www.eufunds.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ish (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κλι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ls for proposals (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κλι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4.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ls for proposals under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rational programme ..…… (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κλι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16000" y="1916280"/>
          <a:ext cx="4162320" cy="4608360"/>
        </p:xfrm>
        <a:graphic>
          <a:graphicData uri="http://schemas.openxmlformats.org/drawingml/2006/table">
            <a:tbl>
              <a:tblPr/>
              <a:tblGrid>
                <a:gridCol w="3362400"/>
                <a:gridCol w="799920"/>
              </a:tblGrid>
              <a:tr h="609480"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Operational Program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mil. </a:t>
                      </a:r>
                      <a:r>
                        <a:rPr b="1" lang="el-GR" sz="1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ministrative capac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etitive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viron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4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uman Resources Develop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gional Develop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chnical Ass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6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6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Γενικά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5438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ΔΕΥ (Δικαιοσύνη &amp; Εσωτερικές Υποθέσει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Νοοτροπία εργαζομένων, παραγωγικότητ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Μεσαία τάξη, καταναλωτικά πρότυπ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Είσοδος στην αγορά, Γραφείο ΟΕΥ Σόφι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Εξωτερικό Εμπόριο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40240" y="6463800"/>
            <a:ext cx="3440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Tahoma"/>
              </a:rPr>
              <a:t>Πηγή: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Eurostat (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http://epp.eurostat.ec.europa.eu/newxtweb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Reporter: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Βουλγαρία, </a:t>
            </a:r>
            <a:r>
              <a:rPr b="1" lang="el-GR" sz="900" spc="-1" strike="noStrike">
                <a:solidFill>
                  <a:srgbClr val="ffffff"/>
                </a:solidFill>
                <a:latin typeface="Tahoma"/>
              </a:rPr>
              <a:t>Τελευταία Ενημέρωση: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 26.6.2008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71640" y="1844640"/>
          <a:ext cx="8007120" cy="4431960"/>
        </p:xfrm>
        <a:graphic>
          <a:graphicData uri="http://schemas.openxmlformats.org/drawingml/2006/table">
            <a:tbl>
              <a:tblPr/>
              <a:tblGrid>
                <a:gridCol w="1130040"/>
                <a:gridCol w="743040"/>
                <a:gridCol w="863640"/>
                <a:gridCol w="1071360"/>
                <a:gridCol w="657360"/>
                <a:gridCol w="863640"/>
                <a:gridCol w="1093680"/>
                <a:gridCol w="720720"/>
                <a:gridCol w="863640"/>
              </a:tblGrid>
              <a:tr h="528120">
                <a:tc gridSpan="3"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ισαγωγές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δις €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ξαγωγές (δις €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Ισοζύγιο (δις €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Αξ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Αξ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Αξ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Σύνολ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Σύνολ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Σύνολ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ωσ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Τουρκ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ωσ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Γερμαν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Γερμαν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Ουκραν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Ιταλ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Ιταλ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Γερμαν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Ουκραν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λλάδ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Αυστρ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Τουρκ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Βέλγι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Κίν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λλάδ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ουμαν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Ιταλ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Ρουμαν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Σερβ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Ουγγαρ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Μ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Μ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6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Μ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5040" y="377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Διμερές Εμπόριο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42920" y="1916280"/>
          <a:ext cx="7896240" cy="3471840"/>
        </p:xfrm>
        <a:graphic>
          <a:graphicData uri="http://schemas.openxmlformats.org/drawingml/2006/table">
            <a:tbl>
              <a:tblPr/>
              <a:tblGrid>
                <a:gridCol w="2787840"/>
                <a:gridCol w="1025280"/>
                <a:gridCol w="1049400"/>
                <a:gridCol w="1049400"/>
                <a:gridCol w="1049400"/>
                <a:gridCol w="934920"/>
              </a:tblGrid>
              <a:tr h="6062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δις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Δ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7-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λληνικές Εισαγωγέ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,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,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,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,5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ισαγωγές από Βουλγαρ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,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λληνικές Εξαγωγέ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,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,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,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ξαγωγές στη Βουλγαρ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,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μπορικό Ισοζύγι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0,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9,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4,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8,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Ισοζύγιο με Βουλγαρ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83160" y="6306480"/>
            <a:ext cx="3440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Tahoma"/>
              </a:rPr>
              <a:t>Πηγή: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Eurostat (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http://epp.eurostat.ec.europa.eu/newxtweb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Reporter: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Ελλάδα, </a:t>
            </a:r>
            <a:r>
              <a:rPr b="1" lang="el-GR" sz="900" spc="-1" strike="noStrike">
                <a:solidFill>
                  <a:srgbClr val="ffffff"/>
                </a:solidFill>
                <a:latin typeface="Tahoma"/>
              </a:rPr>
              <a:t>Τελευταία Ενημέρωση: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 26.6.2008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Διμερής Εμπορική Σχέση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4660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 algn="just"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Η Βουλγαρία είναι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85680" indent="-355320" algn="just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ο 4</a:t>
            </a:r>
            <a:r>
              <a:rPr b="0" lang="el-GR" sz="2200" spc="-1" strike="noStrike" baseline="30000">
                <a:solidFill>
                  <a:srgbClr val="ffffff"/>
                </a:solidFill>
                <a:latin typeface="Tahoma"/>
              </a:rPr>
              <a:t>ος</a:t>
            </a: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 πελάτης της Ελλάδας, απορροφώντας το 6,5% των εξαγωγών της κα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85680" indent="-355320" algn="just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ο 18</a:t>
            </a:r>
            <a:r>
              <a:rPr b="0" lang="el-GR" sz="2200" spc="-1" strike="noStrike" baseline="30000">
                <a:solidFill>
                  <a:srgbClr val="ffffff"/>
                </a:solidFill>
                <a:latin typeface="Tahoma"/>
              </a:rPr>
              <a:t>ος</a:t>
            </a: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 προμηθευτής της, παρέχοντάς της το 1,6% των εισαγωγών τη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 algn="just">
              <a:spcBef>
                <a:spcPts val="22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Η Ελλάδα είνα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85680" indent="-355320" algn="just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ο 4</a:t>
            </a:r>
            <a:r>
              <a:rPr b="0" lang="el-GR" sz="2200" spc="-1" strike="noStrike" baseline="30000">
                <a:solidFill>
                  <a:srgbClr val="ffffff"/>
                </a:solidFill>
                <a:latin typeface="Tahoma"/>
              </a:rPr>
              <a:t>ος</a:t>
            </a: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 πελάτης της Βουλγαρίας, απορροφώντας το 9,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% των εξαγωγών της κα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85680" indent="-355320" algn="just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ο 6</a:t>
            </a:r>
            <a:r>
              <a:rPr b="0" lang="el-GR" sz="2200" spc="-1" strike="noStrike" baseline="30000">
                <a:solidFill>
                  <a:srgbClr val="ffffff"/>
                </a:solidFill>
                <a:latin typeface="Tahoma"/>
              </a:rPr>
              <a:t>ος</a:t>
            </a: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 προμηθευτής της, παρέχοντάς της το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,2</a:t>
            </a: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% των εισαγωγών της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Ελληνικά προϊόντα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989000"/>
            <a:ext cx="777708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 algn="just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Η Ελλάδα εξάγει περίπου 2.500 βιομηχανικά και 400 αγροτικά προϊόντα στη Βουλγαρί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4960" indent="-534960" algn="just"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α 50 πρώτα ελληνικά προϊόντα, με εξαγωγές από 4 – 93 εκατ. €, αντιπροσωπεύουν το 48,6% των ελληνικών εξαγωγών στη Βουλγαρία</a:t>
            </a:r>
            <a:r>
              <a:rPr b="0" lang="el-GR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4960" indent="-53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34960" indent="-53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ffff00"/>
                </a:solidFill>
                <a:latin typeface="Wingdings"/>
                <a:ea typeface="Wingdings"/>
              </a:rPr>
              <a:t>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34960" indent="-53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34960" indent="-53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66"/>
                </a:solidFill>
                <a:latin typeface="Tahoma"/>
              </a:rPr>
              <a:t>Στη Βουλγαρία είναι δυνατόν να εξαχθούν όλα τα ελληνικά προϊόντ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983160" y="6306480"/>
            <a:ext cx="3440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ffffff"/>
                </a:solidFill>
                <a:latin typeface="Tahoma"/>
              </a:rPr>
              <a:t>Πηγή: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Eurostat (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http://epp.eurostat.ec.europa.eu/newxtweb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Reporter: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Ελλάδα, </a:t>
            </a:r>
            <a:r>
              <a:rPr b="1" lang="el-GR" sz="900" spc="-1" strike="noStrike">
                <a:solidFill>
                  <a:srgbClr val="ffffff"/>
                </a:solidFill>
                <a:latin typeface="Tahoma"/>
              </a:rPr>
              <a:t>Τελευταία Ενημέρωση:</a:t>
            </a:r>
            <a:r>
              <a:rPr b="0" lang="el-GR" sz="900" spc="-1" strike="noStrike">
                <a:solidFill>
                  <a:srgbClr val="ffffff"/>
                </a:solidFill>
                <a:latin typeface="Tahoma"/>
              </a:rPr>
              <a:t> 26.6.2008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Επενδύσεις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42920" y="1844640"/>
          <a:ext cx="7953480" cy="4464000"/>
        </p:xfrm>
        <a:graphic>
          <a:graphicData uri="http://schemas.openxmlformats.org/drawingml/2006/table">
            <a:tbl>
              <a:tblPr/>
              <a:tblGrid>
                <a:gridCol w="1681200"/>
                <a:gridCol w="1057320"/>
                <a:gridCol w="1057320"/>
                <a:gridCol w="1057320"/>
                <a:gridCol w="1057320"/>
                <a:gridCol w="1203120"/>
                <a:gridCol w="839880"/>
              </a:tblGrid>
              <a:tr h="562680">
                <a:tc>
                  <a:txBody>
                    <a:bodyPr lIns="90000" rIns="90000" tIns="144000" bIns="144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κατ. €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 – 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ΣΥΝΟΛ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35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15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96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10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97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144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Αυστρ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47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66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Ολλανδ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0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68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Ελλάδ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4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9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404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Ην. Βασίλει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2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14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Βέλγιο &amp; Λου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49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Γερμανί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27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Κύπρο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9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9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ΗΠ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7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2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2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2000" bIns="72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987840" y="6628320"/>
            <a:ext cx="221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ahoma"/>
              </a:rPr>
              <a:t>Πηγή: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Κεντρική Τράπεζα Βουλγαρίας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Τύποι εταιρειών 1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826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ffff"/>
                </a:solidFill>
                <a:latin typeface="Tahoma"/>
              </a:rPr>
              <a:t>1.  Ατομική Επιχείρηση (ΕΤ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712800" indent="-262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τιστοιχεί στην ελληνική ατομική επιχείρησ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12800" indent="-262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Μόνιμος κάτοικος Βουλγαρία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ffff"/>
                </a:solidFill>
                <a:latin typeface="Tahoma"/>
              </a:rPr>
              <a:t>2.  Εταιρεία Περιορισμένης Ευθύνης (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OO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712800" indent="-262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τιστοιχεί στην ελληνική ΕΠ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12800" indent="-262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Μπορεί να είναι μονοπρόσωπη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OO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12800" indent="-262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λάχιστο κεφάλαιο: 5.000 λέβα (~ € 2.5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ffff"/>
                </a:solidFill>
                <a:latin typeface="Tahoma"/>
              </a:rPr>
              <a:t>3.  Ανώνυμη Εταιρεία (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AD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712800" indent="-262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τιστοιχεί στην ελληνική Α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12800" indent="-262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Μπορεί να είναι μονοπρόσωπη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712800" indent="-262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λάχιστο κεφάλαιο: 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.000 λέβα (~ € 2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0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300" spc="-1" strike="noStrike">
                <a:solidFill>
                  <a:srgbClr val="eaeaea"/>
                </a:solidFill>
                <a:latin typeface="Tahoma"/>
              </a:rPr>
              <a:t>Τύποι εταιρειών </a:t>
            </a:r>
            <a:r>
              <a:rPr b="1" lang="en-US" sz="3300" spc="-1" strike="noStrike">
                <a:solidFill>
                  <a:srgbClr val="eaeaea"/>
                </a:solidFill>
                <a:latin typeface="Tahoma"/>
              </a:rPr>
              <a:t>2</a:t>
            </a:r>
            <a:endParaRPr b="1" lang="en-US" sz="33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89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l-GR" sz="2200" spc="-1" strike="noStrike">
                <a:solidFill>
                  <a:srgbClr val="ffffff"/>
                </a:solidFill>
                <a:latin typeface="Tahoma"/>
              </a:rPr>
              <a:t>4.  Γενικός Συνεταιρισμός (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D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53964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τιστοιχεί στην ελληνική Ομόρρυθμη Εταιρεί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964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Μόνιμος κάτοικος Βουλγαρία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2880" indent="0">
              <a:spcBef>
                <a:spcPts val="1650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l-GR" sz="2200" spc="-1" strike="noStrike">
                <a:solidFill>
                  <a:srgbClr val="ffffff"/>
                </a:solidFill>
                <a:latin typeface="Tahoma"/>
              </a:rPr>
              <a:t>5.  Περιορισμένος Συνεταιρισμός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(K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53964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τιστοιχεί στην ελληνική Ετερόρρυθμη Εταιρεί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964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Ο ομόρρυθμος εταίρος πρέπει να είναι μόνιμος κάτοικο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2880" indent="0">
              <a:spcBef>
                <a:spcPts val="1650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l-GR" sz="2200" spc="-1" strike="noStrike">
                <a:solidFill>
                  <a:srgbClr val="ffffff"/>
                </a:solidFill>
                <a:latin typeface="Tahoma"/>
              </a:rPr>
              <a:t>6.  Μετοχικός Περιορισμένος Συνεταιρισμός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(KD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53964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τιστοιχεί στην ελληνική Μετοχική Ετερόρρυθμη Εταιρί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539640">
              <a:spcBef>
                <a:spcPts val="499"/>
              </a:spcBef>
              <a:buClr>
                <a:srgbClr val="ffffff"/>
              </a:buClr>
              <a:buFont typeface="Tahoma"/>
              <a:buChar char="-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λάχιστο κεφάλαιο: 50.000 λέβα (~ € 25.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0:29:42Z</dcterms:created>
  <dc:creator>ECO2</dc:creator>
  <dc:description/>
  <dc:language>en-US</dc:language>
  <cp:lastModifiedBy>NTVM</cp:lastModifiedBy>
  <dcterms:modified xsi:type="dcterms:W3CDTF">2008-06-27T23:34:49Z</dcterms:modified>
  <cp:revision>128</cp:revision>
  <dc:subject/>
  <dc:title>Βουλγαρία 2007</dc:title>
</cp:coreProperties>
</file>